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F139-F4B4-4CD9-B860-F2B3B61CFD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7F0-C338-4BA4-A6AB-83F6003CD8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c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55440" y="9088560"/>
            <a:ext cx="92556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Imagen 1" descr=""/>
          <p:cNvPicPr/>
          <p:nvPr/>
        </p:nvPicPr>
        <p:blipFill>
          <a:blip r:embed="rId3"/>
          <a:stretch/>
        </p:blipFill>
        <p:spPr>
          <a:xfrm>
            <a:off x="65160" y="162000"/>
            <a:ext cx="770040" cy="75240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-12600" y="9809280"/>
            <a:ext cx="92052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85680" y="1170000"/>
            <a:ext cx="7318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eorgia"/>
              </a:rPr>
              <a:t>Título TF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Manuel Pérez García  UAL-CIESOL</cp:lastModifiedBy>
  <dcterms:modified xsi:type="dcterms:W3CDTF">2024-07-01T11:16:44Z</dcterms:modified>
  <cp:revision>55</cp:revision>
  <dc:subject/>
  <dc:title>Diapositiva 1</dc:title>
</cp:coreProperties>
</file>