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c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5182920" y="374760"/>
            <a:ext cx="19785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sume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2"/>
          <a:stretch/>
        </p:blipFill>
        <p:spPr>
          <a:xfrm>
            <a:off x="0" y="-225360"/>
            <a:ext cx="1809720" cy="1091700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3757680" y="10315440"/>
            <a:ext cx="3525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ÁSTER EN ENERGÍA SOLAR, 2017/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7" descr=""/>
          <p:cNvPicPr/>
          <p:nvPr/>
        </p:nvPicPr>
        <p:blipFill>
          <a:blip r:embed="rId3"/>
          <a:stretch/>
        </p:blipFill>
        <p:spPr>
          <a:xfrm>
            <a:off x="147600" y="9088560"/>
            <a:ext cx="1473120" cy="14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874440"/>
            <a:ext cx="5553360" cy="80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Beren</cp:lastModifiedBy>
  <dcterms:modified xsi:type="dcterms:W3CDTF">2018-04-16T21:01:32Z</dcterms:modified>
  <cp:revision>15</cp:revision>
  <dc:subject/>
  <dc:title>Diapositiva 1</dc:title>
</cp:coreProperties>
</file>