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" cy="106918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3297240" y="1142640"/>
            <a:ext cx="26352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61062-27F1-4CCB-84F9-B84437DB0CE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3297240" y="1143000"/>
            <a:ext cx="263520" cy="308628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Marcador de número de diapositiva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79CCD-9964-4618-93F5-9AD6B62EB6A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" y="-1240200"/>
            <a:ext cx="822600" cy="51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" y="2501640"/>
            <a:ext cx="822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" y="5740920"/>
            <a:ext cx="822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" y="-1240200"/>
            <a:ext cx="822600" cy="51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" y="2501640"/>
            <a:ext cx="4014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640" y="2501640"/>
            <a:ext cx="4014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" y="5740920"/>
            <a:ext cx="4014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640" y="5740920"/>
            <a:ext cx="4014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" y="-1240200"/>
            <a:ext cx="822600" cy="51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" y="2501640"/>
            <a:ext cx="264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2000"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4000" y="2501640"/>
            <a:ext cx="264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2000"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80" y="2501640"/>
            <a:ext cx="264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2000"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" y="5740920"/>
            <a:ext cx="264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2000"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4000" y="5740920"/>
            <a:ext cx="264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2000"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80" y="5740920"/>
            <a:ext cx="264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2000"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" y="-1240200"/>
            <a:ext cx="822600" cy="51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" y="2501640"/>
            <a:ext cx="8226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" y="-1240200"/>
            <a:ext cx="822600" cy="51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" y="2501640"/>
            <a:ext cx="8226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" y="-1240200"/>
            <a:ext cx="822600" cy="51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" y="2501640"/>
            <a:ext cx="4014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640" y="2501640"/>
            <a:ext cx="4014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" y="-1240200"/>
            <a:ext cx="822600" cy="51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" y="426600"/>
            <a:ext cx="822600" cy="82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" y="-1240200"/>
            <a:ext cx="822600" cy="51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" y="2501640"/>
            <a:ext cx="4014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640" y="2501640"/>
            <a:ext cx="4014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" y="5740920"/>
            <a:ext cx="4014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" y="-1240200"/>
            <a:ext cx="822600" cy="51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" y="2501640"/>
            <a:ext cx="4014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640" y="2501640"/>
            <a:ext cx="4014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640" y="5740920"/>
            <a:ext cx="4014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" y="-1240200"/>
            <a:ext cx="822600" cy="51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" y="2501640"/>
            <a:ext cx="4014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640" y="2501640"/>
            <a:ext cx="4014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" y="5740920"/>
            <a:ext cx="822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277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1 Título" descr=""/>
          <p:cNvPicPr/>
          <p:nvPr/>
        </p:nvPicPr>
        <p:blipFill>
          <a:blip r:embed="rId2"/>
          <a:stretch/>
        </p:blipFill>
        <p:spPr>
          <a:xfrm>
            <a:off x="6480" y="9845640"/>
            <a:ext cx="950760" cy="693720"/>
          </a:xfrm>
          <a:prstGeom prst="rect">
            <a:avLst/>
          </a:prstGeom>
          <a:ln w="0">
            <a:noFill/>
          </a:ln>
        </p:spPr>
      </p:pic>
      <p:pic>
        <p:nvPicPr>
          <p:cNvPr id="1" name="1 Título" descr=""/>
          <p:cNvPicPr/>
          <p:nvPr/>
        </p:nvPicPr>
        <p:blipFill>
          <a:blip r:embed="rId3"/>
          <a:stretch/>
        </p:blipFill>
        <p:spPr>
          <a:xfrm>
            <a:off x="-92160" y="9083520"/>
            <a:ext cx="1116000" cy="773280"/>
          </a:xfrm>
          <a:prstGeom prst="rect">
            <a:avLst/>
          </a:prstGeom>
          <a:ln w="0">
            <a:noFill/>
          </a:ln>
        </p:spPr>
      </p:pic>
      <p:pic>
        <p:nvPicPr>
          <p:cNvPr id="2" name="1 Título" descr=""/>
          <p:cNvPicPr/>
          <p:nvPr/>
        </p:nvPicPr>
        <p:blipFill>
          <a:blip r:embed="rId4"/>
          <a:stretch/>
        </p:blipFill>
        <p:spPr>
          <a:xfrm>
            <a:off x="-73080" y="1036800"/>
            <a:ext cx="1084320" cy="70632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3" descr=""/>
          <p:cNvPicPr/>
          <p:nvPr/>
        </p:nvPicPr>
        <p:blipFill>
          <a:blip r:embed="rId5">
            <a:biLevel thresh="50000"/>
          </a:blip>
          <a:srcRect l="18394" t="11157" r="17271" b="5095"/>
          <a:stretch/>
        </p:blipFill>
        <p:spPr>
          <a:xfrm>
            <a:off x="60480" y="189000"/>
            <a:ext cx="806400" cy="811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1 Título"/>
          <p:cNvSpPr/>
          <p:nvPr/>
        </p:nvSpPr>
        <p:spPr>
          <a:xfrm rot="16200000">
            <a:off x="-3132720" y="5063040"/>
            <a:ext cx="7175520" cy="83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alibri"/>
              </a:rPr>
              <a:t>Título TF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8T14:05:54Z</dcterms:created>
  <dc:creator>Jorge Sanchez</dc:creator>
  <dc:description/>
  <dc:language>en-US</dc:language>
  <cp:lastModifiedBy>Sergio</cp:lastModifiedBy>
  <dcterms:modified xsi:type="dcterms:W3CDTF">2015-12-04T21:21:54Z</dcterms:modified>
  <cp:revision>54</cp:revision>
  <dc:subject/>
  <dc:title>Diapositiva 1</dc:title>
</cp:coreProperties>
</file>