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5184360" y="374760"/>
            <a:ext cx="1934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Resume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3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2626920" y="10306080"/>
            <a:ext cx="315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dcdb"/>
                </a:solidFill>
                <a:latin typeface="Calibri"/>
              </a:rPr>
              <a:t>GRADO EN INGENIERÍA MECÁNIC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4"/>
          <a:srcRect l="0" t="345" r="0" b="345"/>
          <a:stretch/>
        </p:blipFill>
        <p:spPr>
          <a:xfrm rot="16200000">
            <a:off x="146160" y="8915040"/>
            <a:ext cx="1587240" cy="15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874440"/>
            <a:ext cx="5553360" cy="80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3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Rectángulo 1"/>
          <p:cNvSpPr/>
          <p:nvPr/>
        </p:nvSpPr>
        <p:spPr>
          <a:xfrm>
            <a:off x="5587920" y="10275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dcdb"/>
                </a:solidFill>
                <a:latin typeface="Calibri"/>
              </a:rPr>
              <a:t>202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Jorge Antonio Sánchez Molina</cp:lastModifiedBy>
  <dcterms:modified xsi:type="dcterms:W3CDTF">2021-02-11T18:30:20Z</dcterms:modified>
  <cp:revision>13</cp:revision>
  <dc:subject/>
  <dc:title>Diapositiva 1</dc:title>
</cp:coreProperties>
</file>