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9053640"/>
            <a:ext cx="75614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600" bIns="2160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CuadroTexto"/>
          <p:cNvSpPr/>
          <p:nvPr/>
        </p:nvSpPr>
        <p:spPr>
          <a:xfrm>
            <a:off x="5184360" y="374760"/>
            <a:ext cx="1934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Resume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09720" cy="10691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3"/>
          <a:srcRect l="11174" t="17277" r="5106" b="18388"/>
          <a:stretch/>
        </p:blipFill>
        <p:spPr>
          <a:xfrm>
            <a:off x="135000" y="8948880"/>
            <a:ext cx="1587600" cy="1576080"/>
          </a:xfrm>
          <a:prstGeom prst="rect">
            <a:avLst/>
          </a:prstGeom>
          <a:ln w="0">
            <a:noFill/>
          </a:ln>
        </p:spPr>
      </p:pic>
      <p:sp>
        <p:nvSpPr>
          <p:cNvPr id="4" name="10 CuadroTexto"/>
          <p:cNvSpPr/>
          <p:nvPr/>
        </p:nvSpPr>
        <p:spPr>
          <a:xfrm>
            <a:off x="2441160" y="10315440"/>
            <a:ext cx="3994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GRADO EN INGENIERÍA AGRÍCOLA, 2019/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0080" y="874800"/>
            <a:ext cx="5553360" cy="792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300" spc="-1" strike="noStrike">
              <a:solidFill>
                <a:srgbClr val="63252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7:21:40Z</dcterms:created>
  <dc:creator>Jorge Sanchez</dc:creator>
  <dc:description/>
  <dc:language>en-US</dc:language>
  <cp:lastModifiedBy>borrar</cp:lastModifiedBy>
  <dcterms:modified xsi:type="dcterms:W3CDTF">2020-04-10T16:31:53Z</dcterms:modified>
  <cp:revision>12</cp:revision>
  <dc:subject/>
  <dc:title>Diapositiva 1</dc:title>
</cp:coreProperties>
</file>