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138-5FF3-47E3-BED0-6328D0AE1A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E9ED-56EB-4439-9DA3-D61FBD50CF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-12600" y="9639360"/>
            <a:ext cx="927000" cy="95256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88920" y="8940960"/>
            <a:ext cx="939960" cy="774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http://www.ual.es/GruposInv/myco-ual/imagen/escudo.gif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68400" y="185760"/>
            <a:ext cx="826920" cy="81108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0" y="1041480"/>
            <a:ext cx="9144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SE CARLOS MORENO UBEDA</cp:lastModifiedBy>
  <dcterms:modified xsi:type="dcterms:W3CDTF">2023-09-25T11:58:16Z</dcterms:modified>
  <cp:revision>47</cp:revision>
  <dc:subject/>
  <dc:title>Diapositiva 1</dc:title>
</cp:coreProperties>
</file>